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BF30-DCA0-49B2-B29C-6BC3E42D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B339-533A-4141-9AF2-12EC9787A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7150-7748-433D-B907-DB09413C2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third bullet (interrelate…) is the rationale for the activity in Action 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8FF2-0E33-42EC-BC20-A034DDFF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4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EF0A-E078-4B4F-9AA8-BC5D05C96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0430-03B8-4BC9-AFD4-300162829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int out the assessment opportunities available during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ox 1 min of compa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fter step 3 – ask if they notice anything (should notice that sets of 3 were always toge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55AD-FE30-4E6B-A4C7-41C5BDA65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DE91-87DF-4B25-BF2C-FD60BC97F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EA12-6E9C-4DE3-85EB-B6694AF2A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0C44-EBD4-408A-AB98-C587537B9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 think this would be about 30 minutes, with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F69A-85FD-4280-AD0F-673745A19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279-514B-48B8-9E76-BBB10A14B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640C-886D-46A1-BA40-5D606F612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5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uld discuss strategies they used – sequential selection of x val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research on above struggles and how introduction to quads through geometric models links quads to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4D1D-4083-46FD-B6BB-33CD88FEA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135-E056-44E1-8FDF-984EE7EB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/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part – 2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C30A-E297-4A69-BDA5-50F2BA2F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62F7-E921-4107-994B-C2A16D041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E5A6-4451-400A-A5FA-1C0ED1128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952D-EF6A-4733-BD78-B15526D8F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CB95-7F41-4B3E-A254-6498D309B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BBFE-2287-4A36-A04F-75A24930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4DC0-81BD-42F8-88E4-40171A8E0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E734-20FE-4110-ADBD-113405485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70E7-9464-46CB-AAAC-D7DED43FA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8A9-5F8E-4892-87B9-9B0DAC9B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9C3-2AF2-4DED-AAC7-CCAF3A02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A3A-5F30-4A26-BEF3-8FB43057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7ED-A65C-4312-B2D4-45FDD366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0227-88BC-4714-A5F0-249DD10C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B13-555B-45C5-8887-EFB73082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BB01-BE6B-408B-9035-11AD516B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FC32-1F12-40AC-AE06-E7949B97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C9C2-D09B-49D1-B00A-8F978EAC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A341-731E-4624-BB10-0BDC112D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E79A-4546-4C82-B1D4-61FA890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5F1-94F1-44F9-B45A-CA12DE7C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A465-8A85-4C62-AF3D-2588DB3F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D288-53A2-4DDB-96B7-3D2058F7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9C80-4202-4F2A-A048-4C6898BD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9C11-0137-4AB2-A7D2-6A48EB73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1EFC-A74A-48F1-A2CE-259A8E65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51F-DFA1-4B53-A5C4-03F473DD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8BF-5538-429E-846A-DBF0BF39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886-7663-4D3A-B377-DD251834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25AB-DF1F-4129-A8BE-DD74F984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C26-B1C7-4A25-B813-D5853E65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478-95AE-4182-B007-99B24D94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30B-3ADF-448C-A46C-1A4CB63E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E1A-2CAE-4263-8232-B9A3F1C377C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51D6-0E89-436B-9DEF-44A6559AA42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Tripping Over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Stumbling Bl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ing the problem to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errelate graphical and algebraic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Recognize that different representations of relationships highlight different characteristics or behaviours and can serve different purpo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one is going to receive a graph of a quadratic relation with its equation.  The equations are given in 3 different forms (examples shown below) and we will be looking to see what information each form gives, if any, about a parabola.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3(x + 2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– 7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(x + 4)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– 2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+ 4x +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x 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believe that all of the above relations would give parabolic graphs?  Why or why no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7176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ete the information requested below the graph given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zero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new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only the people who have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a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 record the important info about your 3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g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27436" t="40117" r="26003" b="19771"/>
          <a:stretch/>
        </p:blipFill>
        <p:spPr>
          <a:xfrm>
            <a:off x="1857240" y="3286080"/>
            <a:ext cx="5970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64268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Consolid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class decide how the chart papers should be arranged to help make patter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nformation about the graph of a parabola does each form of the equation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-up exit card: which form do you think is most useful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125"/>
                            </p:stCondLst>
                            <p:childTnLst>
                              <p:par>
                                <p:cTn id="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75"/>
                            </p:stCondLst>
                            <p:childTnLst>
                              <p:par>
                                <p:cTn id="1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90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50"/>
                            </p:stCondLst>
                            <p:childTnLst>
                              <p:par>
                                <p:cTn id="2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50"/>
                            </p:stCondLst>
                            <p:childTnLst>
                              <p:par>
                                <p:cTn id="2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2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7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2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700"/>
                            </p:stCondLst>
                            <p:childTnLst>
                              <p:par>
                                <p:cTn id="47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4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325"/>
                            </p:stCondLst>
                            <p:childTnLst>
                              <p:par>
                                <p:cTn id="5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775"/>
                            </p:stCondLst>
                            <p:childTnLst>
                              <p:par>
                                <p:cTn id="5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50"/>
                            </p:stCondLst>
                            <p:childTnLst>
                              <p:par>
                                <p:cTn id="56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30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700"/>
                            </p:stCondLst>
                            <p:childTnLst>
                              <p:par>
                                <p:cTn id="6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750"/>
                            </p:stCondLst>
                            <p:childTnLst>
                              <p:par>
                                <p:cTn id="74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75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50"/>
                            </p:stCondLst>
                            <p:childTnLst>
                              <p:par>
                                <p:cTn id="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Student Strugg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struggles that you experienced while engaged in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, record struggles you think students might have when completing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at least one question for each struggle which c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Reveal the struggl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caffold for some struggling studen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connections you see between the identified struggle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understandings,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insert revised (when it is) BLM QR.2.2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o we want to show the link to clips here too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3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25"/>
                            </p:stCondLst>
                            <p:childTnLst>
                              <p:par>
                                <p:cTn id="9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6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75"/>
                            </p:stCondLst>
                            <p:childTnLst>
                              <p:par>
                                <p:cTn id="9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9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650"/>
                            </p:stCondLst>
                            <p:childTnLst>
                              <p:par>
                                <p:cTn id="1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50"/>
                            </p:stCondLst>
                            <p:childTnLst>
                              <p:par>
                                <p:cTn id="11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200"/>
                            </p:stCondLst>
                            <p:childTnLst>
                              <p:par>
                                <p:cTn id="11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700"/>
                            </p:stCondLst>
                            <p:childTnLst>
                              <p:par>
                                <p:cTn id="12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200"/>
                            </p:stCondLst>
                            <p:childTnLst>
                              <p:par>
                                <p:cTn id="12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700"/>
                            </p:stCondLst>
                            <p:childTnLst>
                              <p:par>
                                <p:cTn id="134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325"/>
                            </p:stCondLst>
                            <p:childTnLst>
                              <p:par>
                                <p:cTn id="13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775"/>
                            </p:stCondLst>
                            <p:childTnLst>
                              <p:par>
                                <p:cTn id="14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4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50"/>
                            </p:stCondLst>
                            <p:childTnLst>
                              <p:par>
                                <p:cTn id="143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300"/>
                            </p:stCondLst>
                            <p:childTnLst>
                              <p:par>
                                <p:cTn id="14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750"/>
                            </p:stCondLst>
                            <p:childTnLst>
                              <p:par>
                                <p:cTn id="161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250"/>
                            </p:stCondLst>
                            <p:childTnLst>
                              <p:par>
                                <p:cTn id="1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Think Bac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specific struggles would this activity potentially address for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uld be done to address the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the use of manipulatives add to your problem solving strategy? understanding? ability to connect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out algebra tiles from BLM QR.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common stu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artial understanding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one per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sticky note beside the appropriate curriculum cluster or big idea o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Revisit Lesson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nvene with your groups for lesson goals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sticky notes to supplement your own consideration of the struggles students normally encounter, revise and/or add to your lesson goal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st you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00" y="185688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never consider trends in famili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rely consider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understand the power of th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ing the point (b,c) as the vertex of the standard form y=ax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when and how to use the vertex (h,k) with the vertex form, y=x(a-h)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k, which is demonstrated through students using the same process (algebraic to graphical) regardless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5840" y="190476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horizontally or vertically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different, potentially conflicting algebraic and graphical schemes in the cognitive structure (the phenomenon of compartment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simultaneous evoked images for one concept, which results in cognitive conflict (e.g., quadratic function evokes quadratic formula and parabo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not true for algebraic to gra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esent the vertex form by connecting it to the standard form and emphasize the connections to the graph as well as information about how and when to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these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s.yearley</cp:lastModifiedBy>
  <dcterms:modified xsi:type="dcterms:W3CDTF">2009-08-13T18:51:52Z</dcterms:modified>
  <cp:revision>137</cp:revision>
  <dc:subject/>
  <dc:title>Slide 1</dc:title>
</cp:coreProperties>
</file>